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A9B7-185D-4709-A8DD-0E4847CD3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069-B446-46D1-A89B-E91946554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ABC4-9BC3-4EB6-B5A4-260C30E52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4866-ACE8-44C9-B59C-3B79E7E36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FE15-9B47-4B67-840E-044E57377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1A0B-B8DE-491D-8D32-DDD59B764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A510-D590-4903-9FCA-299B2B5B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0AA4-C6C5-4F8F-8437-B5649757C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D0E86-C9EE-4ED6-B6C5-1520EEC46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72EE-3AC7-4FE6-930E-BC83F4B86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EABC-FCA0-4265-9E83-BB0D6C7B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3A00D-3955-4D0A-B367-1E69BA0D9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8361-2633-4A63-90E7-20558685890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ptichka.ru/data/cache/2018feb/10/59/54891_41868.jpg" TargetMode="External"/><Relationship Id="rId3" Type="http://schemas.openxmlformats.org/officeDocument/2006/relationships/hyperlink" Target="https://www.ptichka.ru/data/cache/2018feb/10/59/54891_41868.jpg" TargetMode="External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ptichka.ru/data/cache/2018feb/10/35/54865_48033.jpg" TargetMode="External"/><Relationship Id="rId3" Type="http://schemas.openxmlformats.org/officeDocument/2006/relationships/hyperlink" Target="https://www.ptichka.ru/data/cache/2018feb/10/35/54865_48033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i2.wp.com/gubdaily.ru/wp-content/uploads/2018/05/1432032052_4bzvyars5d4.jpg?ssl=1" TargetMode="External"/><Relationship Id="rId3" Type="http://schemas.openxmlformats.org/officeDocument/2006/relationships/hyperlink" Target="https://i2.wp.com/gubdaily.ru/wp-content/uploads/2018/05/1432032052_4bzvyars5d4.jpg?ssl=1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s://www.ptichka.ru/data/cache/2018feb/10/47/54873_42454.jpg" TargetMode="External"/><Relationship Id="rId3" Type="http://schemas.openxmlformats.org/officeDocument/2006/relationships/hyperlink" Target="https://www.ptichka.ru/data/cache/2018feb/10/47/54873_42454.jpg" TargetMode="External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-32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7"/>
          <p:cNvSpPr/>
          <p:nvPr/>
        </p:nvSpPr>
        <p:spPr>
          <a:xfrm>
            <a:off x="4424400" y="3281400"/>
            <a:ext cx="2970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1871640" y="15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Рисунок 12" descr="Описание: фото 8: Собаки-герои Великой Отечественной войны"/>
          <p:cNvPicPr/>
          <p:nvPr/>
        </p:nvPicPr>
        <p:blipFill>
          <a:blip r:embed="rId2"/>
          <a:stretch/>
        </p:blipFill>
        <p:spPr>
          <a:xfrm>
            <a:off x="1871640" y="1552680"/>
            <a:ext cx="54007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187164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Рисунок 7" descr="Описание: http://www.bayanay.info/uploads/posts/1469598549_2.jpg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48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7"/>
          <p:cNvSpPr/>
          <p:nvPr/>
        </p:nvSpPr>
        <p:spPr>
          <a:xfrm>
            <a:off x="1871640" y="178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Рисунок 6" descr="Описание: https://i0.wp.com/ru.fishki.net/picsw/062013/17/post_anti/orujie/5.jpg"/>
          <p:cNvPicPr/>
          <p:nvPr/>
        </p:nvPicPr>
        <p:blipFill>
          <a:blip r:embed="rId2"/>
          <a:stretch/>
        </p:blipFill>
        <p:spPr>
          <a:xfrm>
            <a:off x="914400" y="304920"/>
            <a:ext cx="7500960" cy="53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195732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Рисунок 15" descr="Описание: фото 18: Собаки-герои Великой Отечественной войны"/>
          <p:cNvPicPr/>
          <p:nvPr/>
        </p:nvPicPr>
        <p:blipFill>
          <a:blip r:embed="rId2"/>
          <a:stretch/>
        </p:blipFill>
        <p:spPr>
          <a:xfrm>
            <a:off x="1957320" y="1467000"/>
            <a:ext cx="5229360" cy="39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187164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Рисунок 4" descr="Описание: http://gorod.tomsk.ru/uploads/42374/1267878389/456.jpg"/>
          <p:cNvPicPr/>
          <p:nvPr/>
        </p:nvPicPr>
        <p:blipFill>
          <a:blip r:embed="rId2"/>
          <a:stretch/>
        </p:blipFill>
        <p:spPr>
          <a:xfrm>
            <a:off x="1143000" y="304920"/>
            <a:ext cx="76960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2166840" y="595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6" descr="фото 2: Собаки-герои Великой Отечественной войны"/>
          <p:cNvPicPr/>
          <p:nvPr/>
        </p:nvPicPr>
        <p:blipFill>
          <a:blip r:embed="rId2"/>
          <a:stretch/>
        </p:blipFill>
        <p:spPr>
          <a:xfrm>
            <a:off x="2133720" y="304920"/>
            <a:ext cx="4809960" cy="56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7"/>
          <p:cNvSpPr/>
          <p:nvPr/>
        </p:nvSpPr>
        <p:spPr>
          <a:xfrm>
            <a:off x="1871640" y="13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Рисунок 11" descr="Описание: фото 3: Собаки-герои Великой Отечественной войны"/>
          <p:cNvPicPr/>
          <p:nvPr/>
        </p:nvPicPr>
        <p:blipFill>
          <a:blip r:embed="rId2"/>
          <a:stretch/>
        </p:blipFill>
        <p:spPr>
          <a:xfrm>
            <a:off x="1871640" y="1352520"/>
            <a:ext cx="540072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1886040" y="1657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"/>
          <p:cNvPicPr/>
          <p:nvPr/>
        </p:nvPicPr>
        <p:blipFill>
          <a:blip r:embed="rId2"/>
          <a:stretch/>
        </p:blipFill>
        <p:spPr>
          <a:xfrm>
            <a:off x="1371600" y="228600"/>
            <a:ext cx="7467480" cy="49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8"/>
          <p:cNvSpPr/>
          <p:nvPr/>
        </p:nvSpPr>
        <p:spPr>
          <a:xfrm>
            <a:off x="1486080" y="139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7" descr=""/>
          <p:cNvPicPr/>
          <p:nvPr/>
        </p:nvPicPr>
        <p:blipFill>
          <a:blip r:embed="rId3"/>
          <a:stretch/>
        </p:blipFill>
        <p:spPr>
          <a:xfrm>
            <a:off x="1295280" y="304920"/>
            <a:ext cx="731520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Text Box 5"/>
          <p:cNvSpPr/>
          <p:nvPr/>
        </p:nvSpPr>
        <p:spPr>
          <a:xfrm>
            <a:off x="304920" y="2479680"/>
            <a:ext cx="85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1812960" y="217476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669960" y="803160"/>
            <a:ext cx="75596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- совершающий подвиги, необычный по своей храбрости, доблести, самоотверженности(Ожегов)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рой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авный, отважный, отчаянно-смелый, решительный.(Дал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9">
            <a:hlinkClick r:id="rId2"/>
          </p:cNvPr>
          <p:cNvSpPr/>
          <p:nvPr/>
        </p:nvSpPr>
        <p:spPr>
          <a:xfrm>
            <a:off x="1876320" y="1576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Рисунок 16" descr="Описание: фото 19: Собаки-герои Великой Отечественной войн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76320" y="1576440"/>
            <a:ext cx="5391360" cy="37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7"/>
          <p:cNvSpPr/>
          <p:nvPr/>
        </p:nvSpPr>
        <p:spPr>
          <a:xfrm>
            <a:off x="3048120" y="24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Рисунок 3" descr="Описание: http://nexplorer.ru/load/Image/0514/sobachki_3_600.jpg"/>
          <p:cNvPicPr/>
          <p:nvPr/>
        </p:nvPicPr>
        <p:blipFill>
          <a:blip r:embed="rId2"/>
          <a:stretch/>
        </p:blipFill>
        <p:spPr>
          <a:xfrm>
            <a:off x="304920" y="228600"/>
            <a:ext cx="3352680" cy="251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"/>
          <p:cNvPicPr/>
          <p:nvPr/>
        </p:nvPicPr>
        <p:blipFill>
          <a:blip r:embed="rId3"/>
          <a:stretch/>
        </p:blipFill>
        <p:spPr>
          <a:xfrm>
            <a:off x="3657600" y="2808360"/>
            <a:ext cx="51814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7">
            <a:hlinkClick r:id="rId2"/>
          </p:cNvPr>
          <p:cNvSpPr/>
          <p:nvPr/>
        </p:nvSpPr>
        <p:spPr>
          <a:xfrm>
            <a:off x="1871640" y="15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14" descr="Описание: фото 11: Собаки-герои Великой Отечественной войн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871640" y="1514520"/>
            <a:ext cx="540072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7"/>
          <p:cNvSpPr/>
          <p:nvPr/>
        </p:nvSpPr>
        <p:spPr>
          <a:xfrm>
            <a:off x="2786040" y="1471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Рисунок 5" descr="Описание: http://uverenniy.ru/sobaki-na-vojne-podvigi-sobak-na-velikoj-otechestvennoj-vojne/124802_html_m50d39b7e.jpg"/>
          <p:cNvPicPr/>
          <p:nvPr/>
        </p:nvPicPr>
        <p:blipFill>
          <a:blip r:embed="rId2"/>
          <a:stretch/>
        </p:blipFill>
        <p:spPr>
          <a:xfrm>
            <a:off x="2057400" y="304920"/>
            <a:ext cx="5075280" cy="55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Rectangle 7">
            <a:hlinkClick r:id="rId2"/>
          </p:cNvPr>
          <p:cNvSpPr/>
          <p:nvPr/>
        </p:nvSpPr>
        <p:spPr>
          <a:xfrm>
            <a:off x="2328840" y="16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Рисунок 10" descr="Описание: 1432032052_4bzvyars5d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328840" y="1623960"/>
            <a:ext cx="4486320" cy="36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7"/>
          <p:cNvSpPr/>
          <p:nvPr/>
        </p:nvSpPr>
        <p:spPr>
          <a:xfrm>
            <a:off x="187164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Рисунок 1" descr="Описание: http://uverenniy.ru/sobaki-na-vojne-podvigi-sobak-na-velikoj-otechestvennoj-vojne/124802_html_m491082bb.jpg"/>
          <p:cNvPicPr/>
          <p:nvPr/>
        </p:nvPicPr>
        <p:blipFill>
          <a:blip r:embed="rId2"/>
          <a:stretch/>
        </p:blipFill>
        <p:spPr>
          <a:xfrm>
            <a:off x="533520" y="685800"/>
            <a:ext cx="8076960" cy="35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>
            <a:hlinkClick r:id="rId2"/>
          </p:cNvPr>
          <p:cNvSpPr/>
          <p:nvPr/>
        </p:nvSpPr>
        <p:spPr>
          <a:xfrm>
            <a:off x="2533680" y="1143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13" descr="Описание: фото 9: Собаки-герои Великой Отечественной войны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33680" y="1143000"/>
            <a:ext cx="40766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1-29T18:08:29Z</dcterms:created>
  <dc:creator>василек</dc:creator>
  <dc:description/>
  <dc:language>en-US</dc:language>
  <cp:lastModifiedBy>Наталья Владыкина</cp:lastModifiedBy>
  <dcterms:modified xsi:type="dcterms:W3CDTF">2021-10-28T15:20:32Z</dcterms:modified>
  <cp:revision>2</cp:revision>
  <dc:subject/>
  <dc:title>Презентация PowerPoint</dc:title>
</cp:coreProperties>
</file>